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FA3-A14B-48B1-8BBB-D474F0FD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57E-E1BA-4D32-8426-5D54BC3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95A-4BE0-4D23-9798-535E06F1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CEB-1BB1-48D9-8B9D-291A37C2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BF4-637A-447E-A7C3-04826FCE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954-3EE5-4A01-8D61-6C1FAB7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76A-58F3-4900-BA8B-2D92BEA6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BE2-A999-458C-9768-061BE9F6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2C2-792E-427A-B332-6C05B339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A2F-BCF3-42BC-A580-033367A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3CB-9BB1-4C44-BF4B-8DF2F106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F5B-DCD8-4CFA-9F4D-E49A610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861-4E60-4090-BEC0-0213E215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L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sha Chilcott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RMC Emergenc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CPR: Hard and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atio is 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compressions are more important than rescue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s delivered at 100/minute (staying alive, staying alive, ah, ah, ah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s 8-10/minute – slower than you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ques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ck, or not to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Fib or pulseless V-T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 or Asysto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AND CONTINUED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: KEEP DOING CP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ing a shock, resume CPR for 2 minutes before checking rhyth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check for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CPR while defibrillator charges, if need to shoc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ET Tub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access or IO acces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/Vasopressin Q3-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odarone after Epi/Vasopressin; Lidocaine also OK, but now out of favor and not in fiel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opres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for V-Fib, V-Tach, PEA, Asysto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Units IV/IO instea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 of 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responsive (talking) patients with know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drug for ALL pulseless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of 1:10,000 solution --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g in 500 ml of NaCl or D5W @ 1microgram/min, titrate 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oda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for V-Fib or pulseless V-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 30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15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: 0.5 mg/min x 1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o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bradycardia or SLOW 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, Asystole: 1mg IV/IO Q3-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: 0.5mg IV/IOQ3-5 min, P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dose &lt; 0.5mg can cause paradoxical 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 YO Caucasian Family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, per his usual at the loca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eling up to par, decides he should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s up in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tander C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surgeon swimming in same lane starts poor quality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R nurses, having breakfast @ poolside shove surgeon out of way and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s arrive, and deliver 2 shocks in field between continued CPR, establishing a line and intub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ER – CPR contin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certified in ACLS in last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ertified befo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ever give bystander CPR or CPR in the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last time you participated in a Code Blue that ha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 Code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rival to ER, rhythm remains VF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in ER and Amiodarone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 converts to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to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able defibrillator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and Code Blu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eeks later, back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later, still swimming and seeing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324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at CPR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actually save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initiate CPR as a byst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alked to Ann Lockhart or Elise Lewis about their experience on the reservoir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m Statistics for Code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spontaneous circulation (ROSC) of about 40% -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to hospital discharge of at most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(3 year) survival ~40% OF the 15% that are dis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-term survival after successful in hospital cardiac arrest resuscitation American Heart Journal - Volume 153, Issue 5 (May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 of adult cardiopulmonary resuscitations at a tertiary referral center including results of "limited" resuscita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umot JA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23-JUL-2001; 161(14): 1751-8 (From NIH/NLM MEDLIN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YO Asian Male Homicid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s road bike total of 250 miles during week of 10/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for easy 3 mile training run w/ other officers 10/1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es post run; reaching for the sky is the last thing he remembers until waking in the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While He was Asl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forward, striking head a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unresponsive, pul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officers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FD on scene in less than 3 minutes, defibrillator pads placed, rhythm check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189160"/>
            <a:ext cx="82296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-Fib Ar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w/ 120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CELLENT CP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ow do we know it was excellen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ulse, check rhythm – carotid pulse present, sinus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Santa Rosa Memori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R trauma bay, patient becomes alert, speaks coherently, and complains of being very s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goes to cardiac catheter where he is diagnosed with severe 3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3 Vessel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study demonstrates need for implantable defibr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s take CPR and get their own cholesterol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56:51Z</dcterms:created>
  <dc:creator>Ian-Peter Sherburne</dc:creator>
  <dc:description/>
  <dc:language>en-US</dc:language>
  <cp:lastModifiedBy>Ian-Peter Sherburne</cp:lastModifiedBy>
  <dcterms:modified xsi:type="dcterms:W3CDTF">2009-01-08T20:03:10Z</dcterms:modified>
  <cp:revision>5</cp:revision>
  <dc:subject/>
  <dc:title>ACLS Update</dc:title>
</cp:coreProperties>
</file>